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6.wmf" ContentType="image/x-wmf"/>
  <Override PartName="/ppt/media/image14.wmf" ContentType="image/x-wmf"/>
  <Override PartName="/ppt/media/image32.wmf" ContentType="image/x-wmf"/>
  <Override PartName="/ppt/media/image12.wmf" ContentType="image/x-wmf"/>
  <Override PartName="/ppt/media/image13.wmf" ContentType="image/x-wmf"/>
  <Override PartName="/ppt/media/image28.png" ContentType="image/png"/>
  <Override PartName="/ppt/media/image31.wmf" ContentType="image/x-wmf"/>
  <Override PartName="/ppt/media/image29.wmf" ContentType="image/x-wmf"/>
  <Override PartName="/ppt/media/image9.wmf" ContentType="image/x-wmf"/>
  <Override PartName="/ppt/media/image30.wmf" ContentType="image/x-wmf"/>
  <Override PartName="/ppt/media/image33.jpeg" ContentType="image/jpeg"/>
  <Override PartName="/ppt/media/image7.wmf" ContentType="image/x-wmf"/>
  <Override PartName="/ppt/media/image37.wmf" ContentType="image/x-wmf"/>
  <Override PartName="/ppt/media/image8.wmf" ContentType="image/x-wmf"/>
  <Override PartName="/ppt/media/image38.png" ContentType="image/png"/>
  <Override PartName="/ppt/media/image39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987D-2989-4C0D-8FC9-323D476D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7BE6-EBE5-4AA7-BDEA-8263DA8A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B7D1-88B3-47CC-828A-4219B679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E4D8-8FCC-4B75-A1F2-413E842AF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C456-0954-49E5-8587-3C08F819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2C05-C1C3-4C58-9B47-7ED686A8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C6FB-612A-4DCD-847A-DFA17C7D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218F-5719-49A9-8C1F-B0B0A5A6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707E-7371-4460-A0A7-CD4B50F0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4AE9-4828-4DE9-A4C8-C8972BC9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A8FA-029B-42DE-9E2B-68830E1B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3054-90E4-4416-9315-D8CA1644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A3B0-1142-4DBE-AAC0-7F70E6A8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B6A3-E703-45F4-812D-ABEC23C2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0A57-0D0C-40AD-BA54-6A1ED434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26E5-1B33-48C0-B139-C5FD21BC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545F-BE27-4B6C-BC67-AC2F67AC1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8D87-B8FB-4EDB-BB3B-13C0B4A3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2021-2DC6-41E0-A3D7-44E683C5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554A-729C-4CAB-8669-34BC7896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FC53-BE49-4982-8DD4-CF7938D1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8A26-476D-40B6-B155-E14D5795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AE74-3746-4579-846C-1A31901B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6E20-CF1B-4467-9896-AA58A684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33D1-4D93-45C9-8907-41234A14F1EB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AE4A-DF38-45A6-80C4-C973FBD2A989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>
                <a:solidFill>
                  <a:srgbClr val="ffffcc"/>
                </a:solidFill>
                <a:latin typeface="ComixHighlight"/>
              </a:rPr>
              <a:t>NOIA</a:t>
            </a:r>
            <a:endParaRPr b="0" lang="en-US" sz="8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9640" y="1627200"/>
            <a:ext cx="806472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ComixHighlight"/>
              </a:rPr>
              <a:t>MALA UTILIZACIÓN POR PARTE DOS USUARI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2592360" cy="2433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689440" y="1628640"/>
            <a:ext cx="2467080" cy="2664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2843280" y="3930480"/>
            <a:ext cx="300492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2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250" autoRev="1" fill="hold"/>
                                        <p:tgtEl>
                                          <p:spTgt spid="1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ComixHighlight"/>
              </a:rPr>
              <a:t>FORMACÍÓN/ESPECIALIZACIÓ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1195560" cy="3730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588000" y="1628640"/>
            <a:ext cx="1694160" cy="45309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771640" y="1413000"/>
            <a:ext cx="3313080" cy="4895640"/>
          </a:xfrm>
          <a:prstGeom prst="rect">
            <a:avLst/>
          </a:prstGeom>
          <a:solidFill>
            <a:srgbClr val="ffff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EXPERIENCIA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PROFESION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(Años de graduació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ESPECIALIZACIÓ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DEDICACIÓ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EXCLUSIV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FORMACIÓ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CONTINUAD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28600" y="0"/>
          <a:ext cx="868680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6868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981080" y="4495680"/>
          <a:ext cx="6019920" cy="2165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4495680"/>
                    <a:ext cx="601992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6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ComixHighlight"/>
              </a:rPr>
              <a:t>MOTIVOS DAS DERIVACIÓ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 rot="21029400">
            <a:off x="3693960" y="2336400"/>
            <a:ext cx="4830840" cy="4024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 rot="20442000">
            <a:off x="0" y="2276280"/>
            <a:ext cx="77914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E DERIVA POLA GRAVEDADE DO CASO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1042920" y="4508640"/>
            <a:ext cx="230508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2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ComixHighlight"/>
              </a:rPr>
              <a:t>MOTIVOS DAS DERIVACIÓ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042920" y="692280"/>
          <a:ext cx="7048440" cy="551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692280"/>
                    <a:ext cx="7048440" cy="55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 txBox="1"/>
          <p:nvPr/>
        </p:nvSpPr>
        <p:spPr>
          <a:xfrm>
            <a:off x="5364000" y="5229360"/>
            <a:ext cx="30099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Apreciacións do personal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2000" fill="hold"/>
                                        <p:tgtEl>
                                          <p:spTgt spid="1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cc"/>
                </a:solidFill>
                <a:latin typeface="ComixHighlight"/>
              </a:rPr>
              <a:t>¿cÓMO SE DERIVA?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2730600" cy="1527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042920" y="2997360"/>
            <a:ext cx="3013200" cy="1863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995640" y="2421000"/>
            <a:ext cx="403884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6 0.125 0.16644 C 0.125 0.25831 0.069 0.33287 0 0.33287 C -0.069 0.33287 -0.125 0.25831 -0.125 0.16644 C -0.125 0.07456 -0.069 0 0 0 Z">
                                      <p:cBhvr>
                                        <p:cTn id="21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.0466 0.028 0.08255 0.062 0.08255 C 0.097 0.08255 0.125 0.0466 0.125 0 C 0.125 -0.0466 0.153 -0.08255 0.188 -0.08255 C 0.222 -0.08255 0.25 -0.0466 0.25 0 E">
                                      <p:cBhvr>
                                        <p:cTn id="214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87 E">
                                      <p:cBhvr>
                                        <p:cTn id="21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xHighlight"/>
              </a:rPr>
              <a:t>Informe para el siguiente nivel</a:t>
            </a:r>
            <a:br>
              <a:rPr sz="3200"/>
            </a:br>
            <a:r>
              <a:rPr b="0" lang="es-ES_tradnl" sz="3200" spc="-1" strike="noStrike">
                <a:solidFill>
                  <a:srgbClr val="ffffcc"/>
                </a:solidFill>
                <a:latin typeface="ComixHighlight"/>
              </a:rPr>
              <a:t>(Folla de Urxencia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31960" y="1600200"/>
            <a:ext cx="3289320" cy="453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4500720" y="1504800"/>
          <a:ext cx="4248000" cy="2330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0720" y="1504800"/>
                    <a:ext cx="4248000" cy="23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084720" y="4437000"/>
            <a:ext cx="133380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855b"/>
                                      </p:to>
                                    </p:animClr>
                                    <p:animClr clrSpc="rgb">
                                      <p:cBhvr>
                                        <p:cTn id="2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855b"/>
                                      </p:to>
                                    </p:animClr>
                                    <p:set>
                                      <p:cBhvr>
                                        <p:cTn id="2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2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3" dur="2000" fill="hold"/>
                                        <p:tgtEl>
                                          <p:spTgt spid="1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ComixHighlight"/>
              </a:rPr>
              <a:t>Folla específica de enfermerí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66ff"/>
                </a:solidFill>
                <a:latin typeface="Verdana"/>
              </a:rPr>
              <a:t>Medicación Administrad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66ff"/>
                </a:solidFill>
                <a:latin typeface="Verdana"/>
              </a:rPr>
              <a:t>Comentarios de Enfermerí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66ff"/>
                </a:solidFill>
                <a:latin typeface="Verdana"/>
              </a:rPr>
              <a:t>Etc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 rot="20949000">
            <a:off x="323640" y="3428640"/>
            <a:ext cx="6264000" cy="19479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ErgoeMildBlackExpanded"/>
              </a:rPr>
              <a:t>¡¡NON SOMOS 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ErgoeMildBlackExpanded"/>
              </a:rPr>
              <a:t> </a:t>
            </a:r>
            <a:r>
              <a:rPr b="0" lang="es-ES_tradnl" sz="2400" spc="-1" strike="noStrike">
                <a:solidFill>
                  <a:srgbClr val="eaeaea"/>
                </a:solidFill>
                <a:latin typeface="ErgoeMildBlackExpanded"/>
              </a:rPr>
              <a:t>CONVIDADOS DE PEDRA!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156360" y="1844640"/>
            <a:ext cx="243828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9" dur="2000" fill="hold"/>
                                        <p:tgtEl>
                                          <p:spTgt spid="1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ComixHighlight"/>
              </a:rPr>
              <a:t>Non durmimos nos loureir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631960" y="1600200"/>
            <a:ext cx="3880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xHighlight"/>
              </a:rPr>
              <a:t>Unha auténtica urxencia</a:t>
            </a:r>
            <a:r>
              <a:rPr b="0" lang="es-ES_tradnl" sz="4400" spc="-1" strike="noStrike">
                <a:solidFill>
                  <a:srgbClr val="ffffcc"/>
                </a:solidFill>
                <a:latin typeface="ComixHighlight"/>
              </a:rPr>
              <a:t>…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cc"/>
                </a:solidFill>
                <a:latin typeface="Fiorne"/>
              </a:rPr>
              <a:t>Ponte medieval de xuño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1165320"/>
            <a:ext cx="7272360" cy="50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ComixHighlight"/>
              </a:rPr>
              <a:t>AS URXENCIA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3300"/>
                </a:solidFill>
                <a:latin typeface="BaccaratUpright"/>
              </a:rPr>
              <a:t>ANTES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59280" y="3489480"/>
            <a:ext cx="5400360" cy="3368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26920" y="2708280"/>
            <a:ext cx="4321440" cy="115236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rgoeMildBlackExpanded"/>
              </a:rPr>
              <a:t>ESTOU NO BAR TIXOLA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rgoeMildBlackExpanded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ErgoeMildBlackExpanded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ErgoeMildBlackExpanded"/>
              </a:rPr>
              <a:t>O Médic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26 L 0.125 0 L 0.177 0 L 0.177 0.06924 L 0.213 0.1185 L 0.177 0.16644 L 0.177 0.23567 L 0.125 0.23567 L 0.089 0.28361 L 0.052 0.23567 L 0 0.23567 L 0 0.16644 L -0.037 0.1185 L 0 0.06924 L 0 0 Z">
                                      <p:cBhvr>
                                        <p:cTn id="3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ComixHighlight"/>
              </a:rPr>
              <a:t>AS URXENCIA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BaccaratUpright"/>
              </a:rPr>
              <a:t>AGORA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64000" y="1682640"/>
            <a:ext cx="2606760" cy="2024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403848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87 E">
                                      <p:cBhvr>
                                        <p:cTn id="42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ComixHighlight"/>
              </a:rPr>
              <a:t>ORGANIZACIÓN DAS URXENCI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 rot="19688400">
            <a:off x="250920" y="2421000"/>
            <a:ext cx="3809880" cy="409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lbert"/>
              </a:rPr>
              <a:t>MODELO TRADICIONAL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lbert"/>
              <a:ea typeface="Albert"/>
            </a:endParaRPr>
          </a:p>
        </p:txBody>
      </p:sp>
      <p:sp>
        <p:nvSpPr>
          <p:cNvPr id="127" name=""/>
          <p:cNvSpPr txBox="1"/>
          <p:nvPr/>
        </p:nvSpPr>
        <p:spPr>
          <a:xfrm rot="4960200">
            <a:off x="7491960" y="2380320"/>
            <a:ext cx="15760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PACS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4160880" cy="4176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 rot="5400000">
            <a:off x="7131600" y="4253760"/>
            <a:ext cx="15764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PACS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 rot="5400000">
            <a:off x="1370520" y="3461400"/>
            <a:ext cx="15760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PAC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 rot="5400000">
            <a:off x="146160" y="5406120"/>
            <a:ext cx="15764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PACS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cc"/>
                </a:solidFill>
                <a:latin typeface="ComixHighlight"/>
              </a:rPr>
              <a:t>MEDIOS MATERIAI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4360" y="3933720"/>
            <a:ext cx="4038480" cy="1920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492360" y="1413000"/>
            <a:ext cx="4038840" cy="1887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716360" y="4292640"/>
            <a:ext cx="3908520" cy="21891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042920" y="1413000"/>
            <a:ext cx="1519200" cy="2189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274 0.16712 L 0.22726 0.16712 E">
                                      <p:cBhvr>
                                        <p:cTn id="80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87 E">
                                      <p:cBhvr>
                                        <p:cTn id="84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87 E">
                                      <p:cBhvr>
                                        <p:cTn id="88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cc"/>
                </a:solidFill>
                <a:latin typeface="ComixHighlight"/>
              </a:rPr>
              <a:t>MEDIOS </a:t>
            </a: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 (</a:t>
            </a:r>
            <a:r>
              <a:rPr b="0" lang="es-ES_tradnl" sz="3200" spc="-1" strike="noStrike">
                <a:solidFill>
                  <a:srgbClr val="ffffcc"/>
                </a:solidFill>
                <a:latin typeface="Impact"/>
              </a:rPr>
              <a:t>En definitiva…….</a:t>
            </a: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905120" y="1971720"/>
            <a:ext cx="1141200" cy="1446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995640" y="1268280"/>
            <a:ext cx="2880000" cy="2189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258920" y="3933720"/>
            <a:ext cx="1685880" cy="2189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148360" y="3429000"/>
            <a:ext cx="27018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66 0.028 -0.08255 0.062 -0.08255 C 0.097 -0.08255 0.125 -0.0466 0.125 0 C 0.125 0.0466 0.153 0.08255 0.188 0.08255 C 0.222 0.08255 0.25 0.0466 0.25 0 E">
                                      <p:cBhvr>
                                        <p:cTn id="102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ComixHighlight"/>
              </a:rPr>
              <a:t>SITUACION LABORAL DO PERSONAL</a:t>
            </a:r>
            <a:r>
              <a:rPr b="0" lang="es-ES_tradnl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_tradnl" sz="4000" spc="-1" strike="noStrike">
                <a:solidFill>
                  <a:srgbClr val="ff66ff"/>
                </a:solidFill>
                <a:latin typeface="Impact"/>
              </a:rPr>
              <a:t>(Personal fixo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2247840"/>
            <a:ext cx="4038480" cy="3235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859280" y="2205000"/>
            <a:ext cx="2879640" cy="1838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 rot="20025600">
            <a:off x="4152600" y="3715920"/>
            <a:ext cx="49910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GUARDIA INACTIV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250" autoRev="1" fill="hold"/>
                                        <p:tgtEl>
                                          <p:spTgt spid="1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ComixHighlight"/>
              </a:rPr>
              <a:t>SITUACIÓN LABORAL DO PERSONAL</a:t>
            </a:r>
            <a:r>
              <a:rPr b="0" lang="es-ES_tradnl" sz="4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_tradnl" sz="4000" spc="-1" strike="noStrike">
                <a:solidFill>
                  <a:srgbClr val="ffffcc"/>
                </a:solidFill>
                <a:latin typeface="Impact"/>
              </a:rPr>
              <a:t>(“Vinculados”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3961080" cy="3816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 rot="10800000">
            <a:off x="5508360" y="1988640"/>
            <a:ext cx="3095640" cy="26085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 rot="20512800">
            <a:off x="5435640" y="5013360"/>
            <a:ext cx="267156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8:56:46Z</dcterms:created>
  <dc:creator>usuario</dc:creator>
  <dc:description/>
  <dc:language>en-US</dc:language>
  <cp:lastModifiedBy>usuario</cp:lastModifiedBy>
  <dcterms:modified xsi:type="dcterms:W3CDTF">2004-11-09T17:00:06Z</dcterms:modified>
  <cp:revision>13</cp:revision>
  <dc:subject/>
  <dc:title>AS URXENCIA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